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26B-9F89-475C-B7AD-BDF667EB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BA7-876C-415C-BC55-6B57AE7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280-708F-4881-A411-EA79F45B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752-02E5-4058-9128-39EAAA5A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E9D-609E-4388-B8A9-2ED48D0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5D6-1571-416C-B468-05AE36B3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FA9-2FC7-4B70-B9F3-5446ACA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33A-EA83-4B95-94FD-4C059304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441-D256-4520-A981-898D7C95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9E3-C07D-4D4A-9F4C-39BD2B9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53E-2C46-467A-9B61-B9029C3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A40-C980-4578-9A47-0EE116A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0D4C-B172-42FC-AE55-F2D32DA3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br>
              <a:rPr sz="2400"/>
            </a:b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ФИЗИКАЛНА МЕДИЦИНА И РЕХАБИЛИТАЦИЈА</a:t>
            </a:r>
            <a:br>
              <a:rPr sz="1800"/>
            </a:b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ставна једи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0920" y="1811160"/>
            <a:ext cx="4249800" cy="4114800"/>
            <a:chOff x="250920" y="1811160"/>
            <a:chExt cx="4249800" cy="41148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50920" y="1811160"/>
              <a:ext cx="4249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250920" y="1811160"/>
              <a:ext cx="42498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veliki</cp:lastModifiedBy>
  <dcterms:modified xsi:type="dcterms:W3CDTF">2014-02-12T14:23:23Z</dcterms:modified>
  <cp:revision>8</cp:revision>
  <dc:subject/>
  <dc:title>Slide 1</dc:title>
</cp:coreProperties>
</file>